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57F6-ECED-4F77-AF61-D307C4B8F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0613-2395-487E-89F9-4D870FB3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4001C-3781-48B2-BFE5-4442F039C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D4FF8-D10F-4692-97E5-5FFC94A54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98F9-B046-4B19-B87F-D6B8580B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42761-224E-4323-BBC5-6E3FC0C7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157A-6B0E-4081-938B-E09FAD371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9CB05-74DF-4A67-9C29-F8831F56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232FE-7DD9-48A6-A981-DC4A9392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EE3C-42D7-4B1F-B48A-E3A2F923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DDC5-9E2D-4495-81DD-E5D01C30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5FBB-F7F6-447A-A15F-9E5FF6856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7A51-1F1C-4E0E-82AF-5FBC4A1C7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trition Ch. 4.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Arial"/>
              </a:rPr>
              <a:t>Mineral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Minerals are substances that strengthen the muscles, bones and teeth; enrich the blood; and keep the heart and other organs operating properly.</a:t>
            </a:r>
            <a:endParaRPr b="0" lang="en-US" sz="3200" spc="-1" strike="noStrike">
              <a:solidFill>
                <a:srgbClr val="000000"/>
              </a:solidFill>
              <a:latin typeface="Arial"/>
            </a:endParaRPr>
          </a:p>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The minerals calcium and fluoride are particularly important for strong bones and tee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essential for survival.</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irth, water makes up 75% of your total body weight; by adulthood, it makes up about 60%.</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elps break down food, carries nutrients throughout the body, removes wastes from the body, and keeps the body at a comfortable temperatur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 6-8 glasses of water per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Recommended Dietary Allow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mmended Dietary Allowance – A set of measured amounts of particular nutrients that will meet the needs of most healthy people.</a:t>
            </a:r>
            <a:endParaRPr b="0" lang="en-US" sz="3200" spc="-1" strike="noStrike">
              <a:solidFill>
                <a:srgbClr val="000000"/>
              </a:solidFill>
              <a:latin typeface="Arial"/>
            </a:endParaRPr>
          </a:p>
          <a:p>
            <a:pPr marL="343080" indent="-343080">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o help you plan a healthful diet, the US government has created a series of dietary guidelines.</a:t>
            </a:r>
            <a:endParaRPr b="0" lang="en-US" sz="3200" spc="-1" strike="noStrike">
              <a:solidFill>
                <a:srgbClr val="000000"/>
              </a:solidFill>
              <a:latin typeface="Arial"/>
            </a:endParaRPr>
          </a:p>
          <a:p>
            <a:pPr marL="343080" indent="-343080">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RDAs are figured based on a person’s gender, age, and activit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y Your Die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ne food group can supply all that your body needs for growth and good heal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at Plenty of Grains, Veggies, and Fruit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Good sources of fiber</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ber: the part of grains, fruits, and vegetables that the body cannot break down.</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Examples of fibrous parts of foods include apple and potato skins and the tough outer coating on kernels of corn and wheat.</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Many types of beans are also high in fiber.</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Fiber helps you move food and wastes through your system. It also helps prevent some diseases, such as cancer.</a:t>
            </a: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Eat at least 20 grams of fiber each day to keep your digestive system healt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ample label for Macaroni and Cheese</a:t>
            </a:r>
            <a:endParaRPr b="0" lang="en-US" sz="4000" spc="-1" strike="noStrike">
              <a:solidFill>
                <a:srgbClr val="000000"/>
              </a:solidFill>
              <a:latin typeface="Arial"/>
            </a:endParaRPr>
          </a:p>
        </p:txBody>
      </p:sp>
      <p:pic>
        <p:nvPicPr>
          <p:cNvPr id="71" name="" descr=""/>
          <p:cNvPicPr/>
          <p:nvPr/>
        </p:nvPicPr>
        <p:blipFill>
          <a:blip r:embed="rId1"/>
          <a:stretch/>
        </p:blipFill>
        <p:spPr>
          <a:xfrm>
            <a:off x="1981080" y="1897200"/>
            <a:ext cx="4876920" cy="496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Reading Food Label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Carbohydrates provide 4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Proteins provide 4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Fats provide 9 calories PER gram</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Example:</a:t>
            </a:r>
            <a:endParaRPr b="0" lang="en-US" sz="3200" spc="-1" strike="noStrike">
              <a:solidFill>
                <a:srgbClr val="000000"/>
              </a:solidFill>
              <a:latin typeface="Arial"/>
            </a:endParaRPr>
          </a:p>
          <a:p>
            <a:pPr lvl="1" marL="743040" indent="-28584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How many calories does one serving of food have that has 24 grams of carbohydrates, 3 grams of protein, and 2 grams of f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Answ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24 grams of carbs x 4 = 96 calories</a:t>
            </a:r>
            <a:endParaRPr b="0" lang="en-US" sz="3200" spc="-1" strike="noStrike">
              <a:solidFill>
                <a:srgbClr val="000000"/>
              </a:solidFill>
              <a:latin typeface="Arial"/>
            </a:endParaRPr>
          </a:p>
          <a:p>
            <a:pPr marL="343080" indent="-343080">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3 grams of proteins x 4 = 12 calori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grams of fat x 9 = 18 calor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96 + 12 + 18 = 126 total cal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ry thi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 food has 30 grams of carbohydrates, 10 grams of proteins, and 4 grams of f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How many total calories does the foo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ell Activit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substances should I limit in my di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arbohydrate Load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or athletes and nonathletes alike, carbohydrates should provide the primary source of energy in a daily diet. Many athletes, especially those who have long daily training sessions and those who participate in athletic events lasting more than 90 minutes, make “carbohydrate loading” an important part of their meal.</a:t>
            </a:r>
            <a:endParaRPr b="0" lang="en-US" sz="2800" spc="-1" strike="noStrike">
              <a:solidFill>
                <a:srgbClr val="000000"/>
              </a:solidFill>
              <a:latin typeface="Arial"/>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ther than relying on carbohydrates to supply 60 to 65% of their energy needs, they boost their intake to supply 7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6 Major Nutri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bohydrat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ei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tami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a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nera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rbohydrat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rches and sugars that provide the body with most of its energy.</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x Carbohydrat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clude the starches found in breads, pastas, rice and such starchy vegetables as potatoes and corn. Your body breaks down starch and converts it to sugar.</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Carbohydrat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e sugars. Some sugars are found in fruits, milk, and honey. Table sugar is processed from sugar cane or sugar bee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Arial"/>
              </a:rPr>
              <a:t>Protei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Arial"/>
              </a:rPr>
              <a:t>Essential nutrients used to repair body cells and tissues.</a:t>
            </a:r>
            <a:endParaRPr b="0" lang="en-US" sz="3200" spc="-1" strike="noStrike">
              <a:solidFill>
                <a:srgbClr val="000000"/>
              </a:solidFill>
              <a:latin typeface="Arial"/>
            </a:endParaRPr>
          </a:p>
          <a:p>
            <a:pPr lvl="1" marL="743040" indent="-28584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Incomplete Proteins:</a:t>
            </a:r>
            <a:endParaRPr b="0" lang="en-US" sz="2800" spc="-1" strike="noStrike">
              <a:solidFill>
                <a:srgbClr val="000000"/>
              </a:solidFill>
              <a:latin typeface="Arial"/>
            </a:endParaRPr>
          </a:p>
          <a:p>
            <a:pPr lvl="2" marL="1143000" indent="-228600">
              <a:spcBef>
                <a:spcPts val="601"/>
              </a:spcBef>
              <a:buClr>
                <a:srgbClr val="cc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Arial"/>
              </a:rPr>
              <a:t>Found in foods from plants (dry beans and grains)</a:t>
            </a:r>
            <a:endParaRPr b="0" lang="en-US" sz="2400" spc="-1" strike="noStrike">
              <a:solidFill>
                <a:srgbClr val="000000"/>
              </a:solidFill>
              <a:latin typeface="Arial"/>
            </a:endParaRPr>
          </a:p>
          <a:p>
            <a:pPr lvl="1" marL="743040" indent="-285840">
              <a:spcBef>
                <a:spcPts val="700"/>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Complete Proteins:</a:t>
            </a:r>
            <a:endParaRPr b="0" lang="en-US" sz="2800" spc="-1" strike="noStrike">
              <a:solidFill>
                <a:srgbClr val="000000"/>
              </a:solidFill>
              <a:latin typeface="Arial"/>
            </a:endParaRPr>
          </a:p>
          <a:p>
            <a:pPr lvl="2" marL="1143000" indent="-228600">
              <a:spcBef>
                <a:spcPts val="601"/>
              </a:spcBef>
              <a:buClr>
                <a:srgbClr val="cc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Arial"/>
              </a:rPr>
              <a:t>Are found in foods such as milk, eggs, and fish. (Come from animal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Vitami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Substances that help regulate the body’s functions.</a:t>
            </a:r>
            <a:endParaRPr b="0" lang="en-US" sz="3200" spc="-1" strike="noStrike">
              <a:solidFill>
                <a:srgbClr val="000000"/>
              </a:solidFill>
              <a:latin typeface="Arial"/>
            </a:endParaRPr>
          </a:p>
          <a:p>
            <a:pPr lvl="1" marL="743040" indent="-285840">
              <a:lnSpc>
                <a:spcPct val="90000"/>
              </a:lnSpc>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Fat-Soluble Vitamins:</a:t>
            </a:r>
            <a:endParaRPr b="0" lang="en-US" sz="2800" spc="-1" strike="noStrike">
              <a:solidFill>
                <a:srgbClr val="000000"/>
              </a:solidFill>
              <a:latin typeface="Arial"/>
            </a:endParaRPr>
          </a:p>
          <a:p>
            <a:pPr lvl="2" marL="1143000" indent="-228600">
              <a:lnSpc>
                <a:spcPct val="90000"/>
              </a:lnSpc>
              <a:spcBef>
                <a:spcPts val="601"/>
              </a:spcBef>
              <a:buClr>
                <a:srgbClr val="66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Arial"/>
              </a:rPr>
              <a:t>Includes vitamins A, D, E, and K, dissolve in fat. The body can therefore store these vitamins until they are needed.</a:t>
            </a:r>
            <a:endParaRPr b="0" lang="en-US" sz="2400" spc="-1" strike="noStrike">
              <a:solidFill>
                <a:srgbClr val="000000"/>
              </a:solidFill>
              <a:latin typeface="Arial"/>
            </a:endParaRPr>
          </a:p>
          <a:p>
            <a:pPr lvl="1" marL="743040" indent="-285840">
              <a:lnSpc>
                <a:spcPct val="90000"/>
              </a:lnSpc>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Water-soluble vitamins:</a:t>
            </a:r>
            <a:endParaRPr b="0" lang="en-US" sz="2800" spc="-1" strike="noStrike">
              <a:solidFill>
                <a:srgbClr val="000000"/>
              </a:solidFill>
              <a:latin typeface="Arial"/>
            </a:endParaRPr>
          </a:p>
          <a:p>
            <a:pPr lvl="2" marL="1143000" indent="-228600">
              <a:lnSpc>
                <a:spcPct val="90000"/>
              </a:lnSpc>
              <a:spcBef>
                <a:spcPts val="601"/>
              </a:spcBef>
              <a:buClr>
                <a:srgbClr val="66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Arial"/>
              </a:rPr>
              <a:t>Including vitamin C and many B vitamins, dissolve in water. Because the body gets rid of extra amounts of these vitamins in urine, water-soluble vitamins must be replaced each day.</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Keep Those Vitamins I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Eat fruits and vegetables raw or lightly steamed. Heat and cooking in water cause loss of some vitamin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Eat fresh fruits and vegetables soon after  buying them.</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ake sure you use the outer leaves of lettuce or cabbage. They are especially rich in vitam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Fats p. 97</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Fats are sources of energy that also perform other functions such as vitamin storage and body insulation.</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Fats keep the skin healthy as well.</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od energy that is not used by the body, however, is stored as body fat. Too much body fat puts stress on the skeleton and the he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4:55:02Z</dcterms:created>
  <dc:creator>GSCS</dc:creator>
  <dc:description/>
  <dc:language>en-US</dc:language>
  <cp:lastModifiedBy>GSCS</cp:lastModifiedBy>
  <dcterms:modified xsi:type="dcterms:W3CDTF">2011-02-14T15:38:52Z</dcterms:modified>
  <cp:revision>5</cp:revision>
  <dc:subject/>
  <dc:title>Nutrition Ch. 4.2</dc:title>
</cp:coreProperties>
</file>